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25.jpeg" ContentType="image/jpeg"/>
  <Override PartName="/ppt/media/image2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E46B-8AE1-469B-8502-8428E6A1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0A52-666E-4CCF-B237-3286A004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DFA-D906-4AE7-945F-E1079339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FA4-C5AD-437C-B812-7AFB040C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269-8B80-4FD0-A34C-2B8038EC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7B9-05CC-4E7D-BC7A-CD1A5E7C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01A-5611-48EB-AA8B-EA12F1BA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C73-6B24-4B49-A385-04DB0CD5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702-1C11-4274-A861-BE02D6CC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C09-F3DD-4BB4-9E43-31564A85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B35-6141-4165-99C3-73AD5D54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69B-4762-49FA-90EC-A7C435F1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A7B-B0E3-42EB-8BB8-BEC3030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AFD-D2A2-4161-987F-033C160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42E1-E224-4871-949C-30FC8FFA7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5181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557440" y="2438280"/>
            <a:ext cx="4757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3676680" cy="2876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s://encrypted-tbn1.google.com/images?q=tbn:ANd9GcTyoo-SUuouIbAEUo3hocOEwWqSRDsR-mtunwLn2PGlqMbAZ6Tm"/>
          <p:cNvPicPr/>
          <p:nvPr/>
        </p:nvPicPr>
        <p:blipFill>
          <a:blip r:embed="rId2"/>
          <a:stretch/>
        </p:blipFill>
        <p:spPr>
          <a:xfrm>
            <a:off x="5410080" y="609480"/>
            <a:ext cx="30481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0" y="277920"/>
            <a:ext cx="4222800" cy="3303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757840" y="3809880"/>
            <a:ext cx="3005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410080" y="3962520"/>
            <a:ext cx="3353040" cy="26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876920" y="573120"/>
            <a:ext cx="35049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3228840" cy="255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5095800" y="304920"/>
            <a:ext cx="3930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3951360" cy="312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s://encrypted-tbn0.google.com/images?q=tbn:ANd9GcQ0DGk9J0P8Fvybt9Pf4tWSlo6z79vDO_F8OxxvkZpQF1F09nSlDA"/>
          <p:cNvPicPr/>
          <p:nvPr/>
        </p:nvPicPr>
        <p:blipFill>
          <a:blip r:embed="rId2"/>
          <a:stretch/>
        </p:blipFill>
        <p:spPr>
          <a:xfrm>
            <a:off x="5176800" y="3962520"/>
            <a:ext cx="3476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105520" y="3095640"/>
            <a:ext cx="384480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s://encrypted-tbn0.google.com/images?q=tbn:ANd9GcQ0DGk9J0P8Fvybt9Pf4tWSlo6z79vDO_F8OxxvkZpQF1F09nSlDA"/>
          <p:cNvPicPr/>
          <p:nvPr/>
        </p:nvPicPr>
        <p:blipFill>
          <a:blip r:embed="rId2"/>
          <a:stretch/>
        </p:blipFill>
        <p:spPr>
          <a:xfrm>
            <a:off x="5105520" y="339840"/>
            <a:ext cx="3276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317" t="0" r="1162" b="0"/>
          <a:stretch/>
        </p:blipFill>
        <p:spPr>
          <a:xfrm>
            <a:off x="5245200" y="3657600"/>
            <a:ext cx="348120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384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1317" t="0" r="1162" b="0"/>
          <a:stretch/>
        </p:blipFill>
        <p:spPr>
          <a:xfrm>
            <a:off x="4800600" y="762120"/>
            <a:ext cx="3594240" cy="2595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s://encrypted-tbn0.google.com/images?q=tbn:ANd9GcSBj0NlndhvvL8v5o72Uw3KMaMXLV1GQLuPXjoyesTJQbzIcIpO"/>
          <p:cNvPicPr/>
          <p:nvPr/>
        </p:nvPicPr>
        <p:blipFill>
          <a:blip r:embed="rId2"/>
          <a:stretch/>
        </p:blipFill>
        <p:spPr>
          <a:xfrm>
            <a:off x="5735520" y="3505320"/>
            <a:ext cx="1724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276720" cy="254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s://encrypted-tbn0.google.com/images?q=tbn:ANd9GcSBj0NlndhvvL8v5o72Uw3KMaMXLV1GQLuPXjoyesTJQbzIcIpO"/>
          <p:cNvPicPr/>
          <p:nvPr/>
        </p:nvPicPr>
        <p:blipFill>
          <a:blip r:embed="rId2"/>
          <a:stretch/>
        </p:blipFill>
        <p:spPr>
          <a:xfrm>
            <a:off x="5486400" y="457200"/>
            <a:ext cx="1724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4724280" y="20520"/>
            <a:ext cx="412272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3868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48320" y="476280"/>
            <a:ext cx="3790800" cy="295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rcRect l="840" t="0" r="1317" b="0"/>
          <a:stretch/>
        </p:blipFill>
        <p:spPr>
          <a:xfrm>
            <a:off x="5541840" y="4267080"/>
            <a:ext cx="317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386856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s://encrypted-tbn3.google.com/images?q=tbn:ANd9GcQDpSq5ygU4WtMUpcHR-6ycSHtnDd9I9xGRjnDyIVPARSm0R7FBKQ"/>
          <p:cNvPicPr/>
          <p:nvPr/>
        </p:nvPicPr>
        <p:blipFill>
          <a:blip r:embed="rId2"/>
          <a:stretch/>
        </p:blipFill>
        <p:spPr>
          <a:xfrm>
            <a:off x="5424480" y="39625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rcRect l="0" t="0" r="641" b="0"/>
          <a:stretch/>
        </p:blipFill>
        <p:spPr>
          <a:xfrm>
            <a:off x="5486400" y="3886200"/>
            <a:ext cx="2813040" cy="199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s://encrypted-tbn3.google.com/images?q=tbn:ANd9GcQDpSq5ygU4WtMUpcHR-6ycSHtnDd9I9xGRjnDyIVPARSm0R7FBKQ"/>
          <p:cNvPicPr/>
          <p:nvPr/>
        </p:nvPicPr>
        <p:blipFill>
          <a:blip r:embed="rId2"/>
          <a:stretch/>
        </p:blipFill>
        <p:spPr>
          <a:xfrm>
            <a:off x="5257800" y="9018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rcRect l="0" t="0" r="641" b="0"/>
          <a:stretch/>
        </p:blipFill>
        <p:spPr>
          <a:xfrm>
            <a:off x="5410080" y="765000"/>
            <a:ext cx="3537000" cy="251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rcRect l="0" t="0" r="1023" b="0"/>
          <a:stretch/>
        </p:blipFill>
        <p:spPr>
          <a:xfrm>
            <a:off x="5410080" y="3886200"/>
            <a:ext cx="322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rcRect l="0" t="0" r="1023" b="0"/>
          <a:stretch/>
        </p:blipFill>
        <p:spPr>
          <a:xfrm>
            <a:off x="4905360" y="533520"/>
            <a:ext cx="3981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124440" cy="2208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https://encrypted-tbn2.google.com/images?q=tbn:ANd9GcTTtFwZyxJ1v-2eY3x7sAx3MiMHstAlLiTwpjW7q_fUnPfqAnJ2"/>
          <p:cNvPicPr/>
          <p:nvPr/>
        </p:nvPicPr>
        <p:blipFill>
          <a:blip r:embed="rId2"/>
          <a:stretch/>
        </p:blipFill>
        <p:spPr>
          <a:xfrm>
            <a:off x="5372280" y="4114800"/>
            <a:ext cx="2286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https://encrypted-tbn2.google.com/images?q=tbn:ANd9GcTTtFwZyxJ1v-2eY3x7sAx3MiMHstAlLiTwpjW7q_fUnPfqAnJ2"/>
          <p:cNvPicPr/>
          <p:nvPr/>
        </p:nvPicPr>
        <p:blipFill>
          <a:blip r:embed="rId1"/>
          <a:stretch/>
        </p:blipFill>
        <p:spPr>
          <a:xfrm>
            <a:off x="5159520" y="662040"/>
            <a:ext cx="3352680" cy="2333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https://encrypted-tbn0.google.com/images?q=tbn:ANd9GcQZ52i52nml7BwWuCSrJASakaZ9Z4l715lSjU0WenJ3t2LIr1lV"/>
          <p:cNvPicPr/>
          <p:nvPr/>
        </p:nvPicPr>
        <p:blipFill>
          <a:blip r:embed="rId2"/>
          <a:stretch/>
        </p:blipFill>
        <p:spPr>
          <a:xfrm>
            <a:off x="5791320" y="3429000"/>
            <a:ext cx="1885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https://encrypted-tbn0.google.com/images?q=tbn:ANd9GcQZ52i52nml7BwWuCSrJASakaZ9Z4l715lSjU0WenJ3t2LIr1lV"/>
          <p:cNvPicPr/>
          <p:nvPr/>
        </p:nvPicPr>
        <p:blipFill>
          <a:blip r:embed="rId1"/>
          <a:stretch/>
        </p:blipFill>
        <p:spPr>
          <a:xfrm>
            <a:off x="5181480" y="1143000"/>
            <a:ext cx="25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840" t="0" r="1317" b="0"/>
          <a:stretch/>
        </p:blipFill>
        <p:spPr>
          <a:xfrm>
            <a:off x="5014800" y="533520"/>
            <a:ext cx="3916440" cy="28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cache.gawker.com/assets/images/7/2011/04/0428_sausage.jpg"/>
          <p:cNvPicPr/>
          <p:nvPr/>
        </p:nvPicPr>
        <p:blipFill>
          <a:blip r:embed="rId2"/>
          <a:stretch/>
        </p:blipFill>
        <p:spPr>
          <a:xfrm>
            <a:off x="5181480" y="3962520"/>
            <a:ext cx="463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3200400" cy="2579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cache.gawker.com/assets/images/7/2011/04/0428_sausage.jpg"/>
          <p:cNvPicPr/>
          <p:nvPr/>
        </p:nvPicPr>
        <p:blipFill>
          <a:blip r:embed="rId2"/>
          <a:stretch/>
        </p:blipFill>
        <p:spPr>
          <a:xfrm>
            <a:off x="4610160" y="685800"/>
            <a:ext cx="48006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159080" cy="335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3903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878" t="0" r="1451" b="0"/>
          <a:stretch/>
        </p:blipFill>
        <p:spPr>
          <a:xfrm>
            <a:off x="5257800" y="3962520"/>
            <a:ext cx="3429000" cy="247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929120" y="0"/>
            <a:ext cx="408636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878" t="0" r="1451" b="0"/>
          <a:stretch/>
        </p:blipFill>
        <p:spPr>
          <a:xfrm>
            <a:off x="5029200" y="457200"/>
            <a:ext cx="3429000" cy="247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5257800" y="3814920"/>
            <a:ext cx="3581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257280" cy="257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5327640" y="762120"/>
            <a:ext cx="3581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ttps://encrypted-tbn1.google.com/images?q=tbn:ANd9GcTyoo-SUuouIbAEUo3hocOEwWqSRDsR-mtunwLn2PGlqMbAZ6Tm"/>
          <p:cNvPicPr/>
          <p:nvPr/>
        </p:nvPicPr>
        <p:blipFill>
          <a:blip r:embed="rId2"/>
          <a:stretch/>
        </p:blipFill>
        <p:spPr>
          <a:xfrm>
            <a:off x="5638680" y="4038480"/>
            <a:ext cx="2371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5:50:58Z</dcterms:created>
  <dc:creator>System User</dc:creator>
  <dc:description/>
  <dc:language>en-US</dc:language>
  <cp:lastModifiedBy>System User</cp:lastModifiedBy>
  <cp:lastPrinted>2012-04-26T14:40:41Z</cp:lastPrinted>
  <dcterms:modified xsi:type="dcterms:W3CDTF">2012-04-26T14:42:31Z</dcterms:modified>
  <cp:revision>17</cp:revision>
  <dc:subject/>
  <dc:title>Yo tengo… </dc:title>
</cp:coreProperties>
</file>